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903240" y="740880"/>
            <a:ext cx="49291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920" bIns="4392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7"/>
          </p:nvPr>
        </p:nvSpPr>
        <p:spPr>
          <a:xfrm>
            <a:off x="-3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18"/>
          </p:nvPr>
        </p:nvSpPr>
        <p:spPr>
          <a:xfrm>
            <a:off x="38145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fi-FI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869A9B4-6E19-4AC6-907D-8929CA9114C2}" type="slidenum">
              <a:rPr b="0" lang="fi-FI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Dian numeron paikkamerkki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9BEEE75-8917-4732-8271-3F2C1C19E979}" type="slidenum">
              <a:rPr b="0" lang="fi-FI" sz="900" spc="-1" strike="noStrike">
                <a:solidFill>
                  <a:srgbClr val="30303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Dian numeron paikkamerkki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9024739-2E46-4448-9423-189C867CE10C}" type="slidenum">
              <a:rPr b="0" lang="fi-FI" sz="900" spc="-1" strike="noStrike">
                <a:solidFill>
                  <a:srgbClr val="30303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1C53-19BD-494B-8544-6E152562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5E0-7D31-44D4-BD0A-95A3B426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418-8E3C-40C8-BEF6-8A8B853B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0BA-38AB-4C94-B9B7-08991E46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C8382-09FE-466B-B22D-0D929993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B9091-D891-47B2-988F-A4DAED41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16845-3064-46B2-BA25-2EC9115B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55E75-674F-46A0-B5EC-DEE4D65E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48F97-D404-4354-85D6-318EF2B1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5DABB-A58F-43B2-9FCC-36B259DB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018C6-6B41-47DD-B721-46F2FE60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A3F1-49C0-4281-90CD-5545DD78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6D99D-5B07-4D54-A8F7-3F40B71C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3AD93-194F-4F07-A703-93CCD0C8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A47F5-6908-494C-8962-801E2B9C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E3D95-6A62-408A-8EAF-17BEA38C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B9C8A-AA55-4ECE-A360-0F497BCE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A9BFA-5458-4CF9-89A3-FE19B308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D0368-C376-4D52-882C-10570C7C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268C4-4C78-472F-95CC-5CAE730D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62CDB-1B76-4079-92A7-6426146C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E21D5-A676-4DF9-9E12-697D8832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EE57-8F59-4712-9CE1-217CF677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5E6FE-5571-4A01-8FDE-BF3C32A3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2A36A-1F38-4A21-B889-B8524C9A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0BD83-3F05-4D10-826E-701444FD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14160-4AC7-47BE-93D2-6D052E5F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840AC-DA9E-4AF3-A76E-2C424E82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EE318-A3B2-4755-B129-3583E0F7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D1D5F-625D-40B0-9707-F2D4AF31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66779-6764-40BA-ACE4-A13BC1E8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9567D-B6DF-4082-8198-92F70BAA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6E80A-721A-495E-9B6D-00822D8F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46C2-FC1D-441B-A059-E548DB0A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C5057-943E-4C2D-8034-80B288BC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4CF1D-EC87-4F26-B2D4-F258E97F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8836D-CFC1-44F9-B0AC-8E6B5297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510A8-4E17-4CA3-ADB9-59240534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0784D-A0FB-4A90-A224-2CF2BA41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2CF97-9CD2-4346-83AB-8868C23F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EBBCE-805D-46AB-B7B5-E65DE62E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D15C8-4266-4EDE-BE9C-BACD8458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CCA27-AE18-42C2-82F3-76432A10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D3799-4086-427F-82A7-BF86D03A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9AB3-B5D3-4DB4-8EF6-83FDBEE3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11DCB-176B-4FD5-B91C-2A53DBB5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E84B6-C1A1-4895-AF62-4D760EF2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EB1F9-2A9A-478F-9C18-AFF9CD72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01AF3-DE14-465D-9856-C872DC42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BB3BB-7CB0-452C-B4B7-2BD8AE2F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F2FCC-9D19-4BDF-B304-57284172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8AA9D-6B6D-43F3-A12F-A66B2A49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E7D5E-15D8-4F53-BF5A-76F181AB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3EBEE-AEEF-4B3C-8A3E-32F3D23C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3A591-9064-492A-8806-DE536948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F78-8FD0-4E78-ADAF-12C626A6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4DC38-CF27-4E46-B9A2-E8DC51A8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AA7-07A0-4E1A-9225-DB0F61EE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3033-01AE-426F-ABDD-B55E8011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04B-66B4-4FAF-85C4-78BE0513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71B5-3AE5-430D-BEEA-ACFB2DCF5EDA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5" name="Picture 10" descr="SHORT_THL_LOGO_RGB_large.jpg"/>
          <p:cNvPicPr/>
          <p:nvPr/>
        </p:nvPicPr>
        <p:blipFill>
          <a:blip r:embed="rId2"/>
          <a:stretch/>
        </p:blipFill>
        <p:spPr>
          <a:xfrm>
            <a:off x="3124080" y="4038480"/>
            <a:ext cx="2603520" cy="1063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0" y="0"/>
            <a:ext cx="9144000" cy="380988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7" name="Picture 14" descr="THL_KV_LOGO_PPT.JPG"/>
          <p:cNvPicPr/>
          <p:nvPr/>
        </p:nvPicPr>
        <p:blipFill>
          <a:blip r:embed="rId3"/>
          <a:stretch/>
        </p:blipFill>
        <p:spPr>
          <a:xfrm>
            <a:off x="2209680" y="5226120"/>
            <a:ext cx="4572000" cy="226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B66D-213B-4A0A-A5FE-504414AB1004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6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90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92" name="Suorakulmio 6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BBEC-5702-492D-9574-959496A15A3C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35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137" name="Suorakulmio 7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0379-5E7A-499E-B78C-76555A3C6D57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80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182" name="Suorakulmio 5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D344-FF60-4A84-8CCF-4952E333B22A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0" name="Dian numeron paikkamerkki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2A31-72A1-4889-AB6A-1072BBB6C092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14300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MARAC</a:t>
            </a:r>
            <a:r>
              <a:rPr b="1" lang="fi-FI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 Agency Risk Assessment Conferenc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68360" y="2631600"/>
            <a:ext cx="82072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The Finnish experiences since 2010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3" name="Alatunnisteen paikkamerkki 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74" name="Picture 7" descr="ylabanneri_7.jpg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Aims of MARAC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03030"/>
                </a:solidFill>
                <a:uFillTx/>
                <a:latin typeface="Arial"/>
              </a:rPr>
              <a:t>For the authorities/agencies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hare information between authorities to increase the safety, health and well-being of victims and their children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uce the risk of harm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, cut costs of violence, decrease unnecessary work, improve follow-up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03030"/>
                </a:solidFill>
                <a:uFillTx/>
                <a:latin typeface="Arial"/>
              </a:rPr>
              <a:t>For the victim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Reduce repeat victimization/reoccurrence of violenc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prove the safety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of the victim of domestic violenc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4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5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6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AECA-3766-49F9-82B4-144DE3DA7866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8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9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86A4-9FF5-44F5-B895-7B3970897A08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0" name="Pyöristetty suorakulmio 4"/>
          <p:cNvSpPr/>
          <p:nvPr/>
        </p:nvSpPr>
        <p:spPr>
          <a:xfrm>
            <a:off x="2805120" y="246240"/>
            <a:ext cx="2305080" cy="109512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Identify the Victim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1" name="Pyöristetty suorakulmio 5"/>
          <p:cNvSpPr/>
          <p:nvPr/>
        </p:nvSpPr>
        <p:spPr>
          <a:xfrm>
            <a:off x="2805120" y="1557360"/>
            <a:ext cx="2305080" cy="100800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Do the Risk Assessment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(MARAC form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2" name="Pyöristetty suorakulmio 6"/>
          <p:cNvSpPr/>
          <p:nvPr/>
        </p:nvSpPr>
        <p:spPr>
          <a:xfrm>
            <a:off x="1258920" y="2708280"/>
            <a:ext cx="1657440" cy="1015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Risk not elevate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3" name="Alanuoli 7"/>
          <p:cNvSpPr/>
          <p:nvPr/>
        </p:nvSpPr>
        <p:spPr>
          <a:xfrm rot="2700000">
            <a:off x="3080880" y="2733120"/>
            <a:ext cx="432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4" name="Alanuoli 8"/>
          <p:cNvSpPr/>
          <p:nvPr/>
        </p:nvSpPr>
        <p:spPr>
          <a:xfrm rot="18900000">
            <a:off x="4379760" y="2733840"/>
            <a:ext cx="432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5" name="Pyöristetty suorakulmio 9"/>
          <p:cNvSpPr/>
          <p:nvPr/>
        </p:nvSpPr>
        <p:spPr>
          <a:xfrm>
            <a:off x="5003640" y="2708280"/>
            <a:ext cx="1656000" cy="1015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Risk is elevate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6" name="Pyöristetty suorakulmio 10"/>
          <p:cNvSpPr/>
          <p:nvPr/>
        </p:nvSpPr>
        <p:spPr>
          <a:xfrm>
            <a:off x="1035000" y="4038480"/>
            <a:ext cx="1160640" cy="1152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Do the necessary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measures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7" name="Pyöristetty suorakulmio 11"/>
          <p:cNvSpPr/>
          <p:nvPr/>
        </p:nvSpPr>
        <p:spPr>
          <a:xfrm>
            <a:off x="5003640" y="3951360"/>
            <a:ext cx="1297080" cy="1152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Ask for consent for MARAC team handling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8" name="Pyöristetty suorakulmio 12"/>
          <p:cNvSpPr/>
          <p:nvPr/>
        </p:nvSpPr>
        <p:spPr>
          <a:xfrm>
            <a:off x="6408720" y="3936960"/>
            <a:ext cx="1116000" cy="1150920"/>
          </a:xfrm>
          <a:custGeom>
            <a:avLst/>
            <a:gdLst>
              <a:gd name="textAreaLeft" fmla="*/ 54360 w 1116000"/>
              <a:gd name="textAreaRight" fmla="*/ 1061640 w 1116000"/>
              <a:gd name="textAreaTop" fmla="*/ 54360 h 1150920"/>
              <a:gd name="textAreaBottom" fmla="*/ 1096560 h 1150920"/>
            </a:gdLst>
            <a:ahLst/>
            <a:rect l="textAreaLeft" t="textAreaTop" r="textAreaRight" b="textAreaBottom"/>
            <a:pathLst>
              <a:path w="21600" h="22276">
                <a:moveTo>
                  <a:pt x="3600" y="0"/>
                </a:moveTo>
                <a:arcTo wR="3600" hR="3600" stAng="16200000" swAng="-5400000"/>
                <a:lnTo>
                  <a:pt x="0" y="18676"/>
                </a:lnTo>
                <a:arcTo wR="3600" hR="3600" stAng="10800000" swAng="-5400000"/>
                <a:lnTo>
                  <a:pt x="18000" y="222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Do the necessary measures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9" name="Pyöristetty suorakulmio 13"/>
          <p:cNvSpPr/>
          <p:nvPr/>
        </p:nvSpPr>
        <p:spPr>
          <a:xfrm>
            <a:off x="7667640" y="3951360"/>
            <a:ext cx="1081080" cy="11523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152360"/>
              <a:gd name="textAreaBottom" fmla="*/ 1099800 h 1152360"/>
            </a:gdLst>
            <a:ahLst/>
            <a:rect l="textAreaLeft" t="textAreaTop" r="textAreaRight" b="textAreaBottom"/>
            <a:pathLst>
              <a:path w="21600" h="23024">
                <a:moveTo>
                  <a:pt x="3600" y="0"/>
                </a:moveTo>
                <a:arcTo wR="3600" hR="3600" stAng="16200000" swAng="-5400000"/>
                <a:lnTo>
                  <a:pt x="0" y="19424"/>
                </a:lnTo>
                <a:arcTo wR="3600" hR="3600" stAng="10800000" swAng="-5400000"/>
                <a:lnTo>
                  <a:pt x="18000" y="230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Offer contact to victim support 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0" name="Alanuoli 14"/>
          <p:cNvSpPr/>
          <p:nvPr/>
        </p:nvSpPr>
        <p:spPr>
          <a:xfrm rot="2700000">
            <a:off x="5181840" y="5301000"/>
            <a:ext cx="432000" cy="5032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1" name="Pyöristetty suorakulmio 15"/>
          <p:cNvSpPr/>
          <p:nvPr/>
        </p:nvSpPr>
        <p:spPr>
          <a:xfrm>
            <a:off x="2698920" y="5133960"/>
            <a:ext cx="2304720" cy="115272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Post the MARAC form and the consent form to the local MARAC team’s secretary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The MARAC process 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4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1E12-D5FF-4F89-BEE1-045249B18013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754680" cy="4620960"/>
          </a:xfrm>
          <a:prstGeom prst="rect">
            <a:avLst/>
          </a:prstGeom>
          <a:ln w="0">
            <a:noFill/>
          </a:ln>
        </p:spPr>
      </p:pic>
      <p:sp>
        <p:nvSpPr>
          <p:cNvPr id="347" name="Nuoli oikealle 6"/>
          <p:cNvSpPr/>
          <p:nvPr/>
        </p:nvSpPr>
        <p:spPr>
          <a:xfrm>
            <a:off x="468360" y="2090880"/>
            <a:ext cx="934920" cy="57456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439560" y="3645000"/>
            <a:ext cx="963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0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1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C75A-BCBC-41B4-8FA3-6DDBF6C85637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1004760" y="23760"/>
            <a:ext cx="7134480" cy="5886360"/>
          </a:xfrm>
          <a:prstGeom prst="rect">
            <a:avLst/>
          </a:prstGeom>
          <a:ln w="0">
            <a:noFill/>
          </a:ln>
        </p:spPr>
      </p:pic>
      <p:sp>
        <p:nvSpPr>
          <p:cNvPr id="353" name="Tekstiruutu 4"/>
          <p:cNvSpPr/>
          <p:nvPr/>
        </p:nvSpPr>
        <p:spPr>
          <a:xfrm>
            <a:off x="324000" y="69228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The risk assesment form is a tool for mapping violence: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Risk Indicator Checklis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355" name="Sisällön paikkamerkki 2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45520" cy="4992480"/>
          </a:xfrm>
          <a:prstGeom prst="rect">
            <a:avLst/>
          </a:prstGeom>
          <a:ln w="0">
            <a:noFill/>
          </a:ln>
        </p:spPr>
      </p:pic>
      <p:sp>
        <p:nvSpPr>
          <p:cNvPr id="35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7" name="Alatunnisteen paikkamerkki 4"/>
          <p:cNvSpPr/>
          <p:nvPr/>
        </p:nvSpPr>
        <p:spPr>
          <a:xfrm>
            <a:off x="1541520" y="6597720"/>
            <a:ext cx="604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21EB-F9A1-4CD8-ABF9-2F2FFCC05A15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An example of the MARAC-team’s Agenda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988560"/>
            <a:ext cx="821844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Agenda of the MARAC-team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Time: Wednesday 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28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1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1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2018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.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 at 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13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0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Place: </a:t>
            </a:r>
            <a:r>
              <a:rPr b="0" lang="lt-LT" sz="1800" spc="-1" strike="noStrike">
                <a:solidFill>
                  <a:srgbClr val="303030"/>
                </a:solidFill>
                <a:latin typeface="Arial"/>
              </a:rPr>
              <a:t>Leona Paegles 1, Cesi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Opening of the meeting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Approval of Agenda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Minutes of previous Meeting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omination of Chair and Secretary for 2018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Status of case 9/2017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w case TKM1/2018, presented by police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w case THK 2/2018, presented by social services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xt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Closing of the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E93C-A6A3-4551-8D12-E8E99CC0DC57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sults of the model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2828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UK police: MARAC decreased reoccurring of domestic violence cases by 2/3 (2004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 Cardiff: 60 % of victims handled by MARAC did not face reoccurrance of violence in the following 6 months (2004, 2009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 Finland, after 6 months of entering MARAC, 15 % of victims had faced reoccurrence of domestic violence (when 6 months prior to entering, likelyhood of reoccurrance was at 60% level), thus, MARAC reduced reoccurring crime offence reports by over 70 %  (2015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7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E5B6-0ED1-47F0-91F7-18F985AAD9BB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THL study of the effectivity (2010-2015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Data collection: Police records, victim interviews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382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cases have been referred to MARAC in Finland during 1.10.2010-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30.3.2015 , who gave consent to use data in the study (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95 % of victims are women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Police files were pulled six months after the MARAC was held (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N=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03030"/>
                </a:solidFill>
                <a:latin typeface="Arial"/>
              </a:rPr>
              <a:t>365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terviews (n=70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C3C3-B3C4-4B9E-9B56-A5948CCCA317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Age of the victim referred to MARAC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57200" y="1484280"/>
          <a:ext cx="8218440" cy="296712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8-2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5-3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1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5-4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5-5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5-6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Not specified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82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</a:tbl>
          </a:graphicData>
        </a:graphic>
      </p:graphicFrame>
      <p:sp>
        <p:nvSpPr>
          <p:cNvPr id="37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7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5406-D9DC-4DD1-AF0E-A4F4DB55508D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9" name="Tekstiruutu 8"/>
          <p:cNvSpPr/>
          <p:nvPr/>
        </p:nvSpPr>
        <p:spPr>
          <a:xfrm>
            <a:off x="1289880" y="5181480"/>
            <a:ext cx="43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  <a:ea typeface="Arial"/>
              </a:rPr>
              <a:t>Most often victims are 25-44 years ol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Reoccurrence of violence and abuse</a:t>
            </a:r>
            <a:br>
              <a:rPr sz="2800"/>
            </a:b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(recorded before and 6 months after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57200" y="1484280"/>
          <a:ext cx="8218440" cy="231156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0.2010-30.3.2015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365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</a:tr>
              <a:tr h="7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Crime reported to police prior to MARAC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32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7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Crime reported to police 6 months after MARAC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</a:tbl>
          </a:graphicData>
        </a:graphic>
      </p:graphicFrame>
      <p:sp>
        <p:nvSpPr>
          <p:cNvPr id="38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ABDC-87A6-4D24-A578-A91A60CC7E7B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5" name="Tekstiruutu 7"/>
          <p:cNvSpPr/>
          <p:nvPr/>
        </p:nvSpPr>
        <p:spPr>
          <a:xfrm>
            <a:off x="1163160" y="4537080"/>
            <a:ext cx="72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  <a:ea typeface="Arial"/>
              </a:rPr>
              <a:t>Re-</a:t>
            </a:r>
            <a:r>
              <a:rPr b="0" lang="en-GB" sz="1800" spc="-1" strike="noStrike">
                <a:solidFill>
                  <a:srgbClr val="303030"/>
                </a:solidFill>
                <a:latin typeface="Arial"/>
                <a:ea typeface="Arial"/>
              </a:rPr>
              <a:t>victimisation was reduced in more than 70 per cent of the case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Structure of the presentation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Why: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Prevalence and impact of violence against women and domestic violence in Europe 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What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is MARAC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How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MARAC works and our experiences of its effectivity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7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8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9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80E5-9915-44FA-9CC3-A075FC113E37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7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8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50E3-F27E-4BFF-955E-EAF3B84EB39C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9" name="Tekstiruutu 4"/>
          <p:cNvSpPr/>
          <p:nvPr/>
        </p:nvSpPr>
        <p:spPr>
          <a:xfrm>
            <a:off x="755640" y="907920"/>
            <a:ext cx="287964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03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MARAC in Finland in 2017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Covers over 2,5 million inhabitants (population of 5,4 million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34 MARAC teams functioning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Over 100 municipalities, 1-3 in each County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90" name="Kuva 5" descr=""/>
          <p:cNvPicPr/>
          <p:nvPr/>
        </p:nvPicPr>
        <p:blipFill>
          <a:blip r:embed="rId1"/>
          <a:stretch/>
        </p:blipFill>
        <p:spPr>
          <a:xfrm>
            <a:off x="3995640" y="836640"/>
            <a:ext cx="4824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Key factors for succeeding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303030"/>
                </a:solidFill>
                <a:uFillTx/>
                <a:latin typeface="Arial"/>
              </a:rPr>
              <a:t>When adapting the model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eparate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funds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/project funds necessary for start-up/piloting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For the model to work, asking about violence should be made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routine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 in client encounters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ystematic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training of professionals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crucia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Winning over the hearts and minds of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uperior(s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A4DB-B097-402A-9D18-8201132E50D9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cent legal developments in Finland with regard to MARAC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nland ratified the 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Istanbul Convention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(CoE Convention on preventing and combating violence against women and domestic violence) in 1.8.2015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Obligates the state to fully address Violence against Women it in all its forms and to take measure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event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violence against wome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tect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its victims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secute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the perpetrators.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rt. 18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fective multi-agency collaboration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rt. 51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sk assessment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nd risk managemen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8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9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0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280A-3CC2-4FAD-B2B7-281D9FE70EFF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cent legal developments in Finland (continues)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28320" indent="-3283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New 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Social Welfare Act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entered into force 1.4.2015. 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575280" indent="-24372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Obligates the local municipalities to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rovide services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o a person encountering violence, incl. Domestic and Interpersonal Violence.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e Act on reimbursement out of State funds for providers of 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shelters for victims of domestic violenc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entered into frce 1.1.2015.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The shelters financed by the state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uarantees qualitative and comprehensive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rvices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The shelters ar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pen for anyone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– women, men and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hildren of all ages – who have experienced acts or are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reatened by acts of domestic violence. (Children usually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tay in the shelter with their parent.)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575280" indent="-24372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8E52-E992-49E7-9E47-A02A9F9EC806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7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8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219B-2C02-4D79-98C1-5D85C4544F78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843280" y="289080"/>
            <a:ext cx="3456000" cy="6279840"/>
          </a:xfrm>
          <a:prstGeom prst="rect">
            <a:avLst/>
          </a:prstGeom>
          <a:ln w="0">
            <a:noFill/>
          </a:ln>
        </p:spPr>
      </p:pic>
      <p:sp>
        <p:nvSpPr>
          <p:cNvPr id="410" name="Tekstiruutu 4"/>
          <p:cNvSpPr/>
          <p:nvPr/>
        </p:nvSpPr>
        <p:spPr>
          <a:xfrm>
            <a:off x="324000" y="1484280"/>
            <a:ext cx="419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Shelters in Finland 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in 2017: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Now 143 places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T.b. Increased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Funding +40 %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Thank you!</a:t>
            </a:r>
            <a:br>
              <a:rPr sz="3600"/>
            </a:b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39280" y="378936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martta.october@thl.fi, +358 29 524 7710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www.thl.fi/marak (mostly in Finnish)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www.safelives.org.uk (MARAC info/UK)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F7AF-54C0-4A3E-B95C-E1652C91F4F6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16" name="Picture 2" descr="M:\_Pictures\pöllöt.PNG"/>
          <p:cNvPicPr/>
          <p:nvPr/>
        </p:nvPicPr>
        <p:blipFill>
          <a:blip r:embed="rId1"/>
          <a:stretch/>
        </p:blipFill>
        <p:spPr>
          <a:xfrm>
            <a:off x="1593720" y="1052640"/>
            <a:ext cx="5913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15640" y="-150120"/>
            <a:ext cx="7559640" cy="4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lv-LV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281" name="Sisällön paikkamerkki 6" descr=""/>
          <p:cNvPicPr/>
          <p:nvPr/>
        </p:nvPicPr>
        <p:blipFill>
          <a:blip r:embed="rId1"/>
          <a:stretch/>
        </p:blipFill>
        <p:spPr>
          <a:xfrm>
            <a:off x="755640" y="0"/>
            <a:ext cx="7777080" cy="6165720"/>
          </a:xfrm>
          <a:prstGeom prst="rect">
            <a:avLst/>
          </a:prstGeom>
          <a:ln w="0">
            <a:noFill/>
          </a:ln>
        </p:spPr>
      </p:pic>
      <p:sp>
        <p:nvSpPr>
          <p:cNvPr id="28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8D03-2A25-4ADA-B11B-77BEB00FD398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6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7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4EE1-E5EF-4D58-874F-A2B5E5200C36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88" name="Kuva 4" descr=""/>
          <p:cNvPicPr/>
          <p:nvPr/>
        </p:nvPicPr>
        <p:blipFill>
          <a:blip r:embed="rId1"/>
          <a:stretch/>
        </p:blipFill>
        <p:spPr>
          <a:xfrm>
            <a:off x="609480" y="0"/>
            <a:ext cx="7912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Domestic violence (even only between parents) is an ACE (Adverse Childhood Experience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290" name="Sisällön paikkamerkki 7" descr=""/>
          <p:cNvPicPr/>
          <p:nvPr/>
        </p:nvPicPr>
        <p:blipFill>
          <a:blip r:embed="rId1"/>
          <a:stretch/>
        </p:blipFill>
        <p:spPr>
          <a:xfrm>
            <a:off x="900000" y="1339920"/>
            <a:ext cx="6985080" cy="4951440"/>
          </a:xfrm>
          <a:prstGeom prst="rect">
            <a:avLst/>
          </a:prstGeom>
          <a:ln w="0">
            <a:noFill/>
          </a:ln>
        </p:spPr>
      </p:pic>
      <p:sp>
        <p:nvSpPr>
          <p:cNvPr id="29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EEDE-C2DC-4CE5-A148-EF22684927F4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519b2f"/>
                </a:solidFill>
                <a:latin typeface="Arial"/>
              </a:rPr>
              <a:t>Homicides in Intimate partner relationships in Finland</a:t>
            </a:r>
            <a:endParaRPr b="1" lang="en-US" sz="32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95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6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7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EAA8-1532-4063-A09F-A4ADD6E8BEC7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397160" y="1674720"/>
            <a:ext cx="633888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Violence against women in intimate partner relations </a:t>
            </a:r>
            <a:br>
              <a:rPr sz="2800"/>
            </a:b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– the whole pictur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00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1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2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D8F7-3F20-4565-B240-BEB0B427F804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54800" cy="4068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2"/>
          <a:stretch/>
        </p:blipFill>
        <p:spPr>
          <a:xfrm>
            <a:off x="2556000" y="2205000"/>
            <a:ext cx="933480" cy="158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3"/>
          <a:stretch/>
        </p:blipFill>
        <p:spPr>
          <a:xfrm>
            <a:off x="2073240" y="3095640"/>
            <a:ext cx="933480" cy="158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4"/>
          <a:stretch/>
        </p:blipFill>
        <p:spPr>
          <a:xfrm>
            <a:off x="1447920" y="4229280"/>
            <a:ext cx="804600" cy="158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5"/>
          <a:stretch/>
        </p:blipFill>
        <p:spPr>
          <a:xfrm>
            <a:off x="7770960" y="3174840"/>
            <a:ext cx="128520" cy="1694160"/>
          </a:xfrm>
          <a:prstGeom prst="rect">
            <a:avLst/>
          </a:prstGeom>
          <a:ln w="0">
            <a:noFill/>
          </a:ln>
        </p:spPr>
      </p:pic>
      <p:sp>
        <p:nvSpPr>
          <p:cNvPr id="308" name="Tekstiruutu 6"/>
          <p:cNvSpPr/>
          <p:nvPr/>
        </p:nvSpPr>
        <p:spPr>
          <a:xfrm>
            <a:off x="324000" y="20606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21/year on average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(2003-2013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9" name="Tekstiruutu 8"/>
          <p:cNvSpPr/>
          <p:nvPr/>
        </p:nvSpPr>
        <p:spPr>
          <a:xfrm>
            <a:off x="755640" y="2781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3300/year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(in 2013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0" name="Tekstiruutu 9"/>
          <p:cNvSpPr/>
          <p:nvPr/>
        </p:nvSpPr>
        <p:spPr>
          <a:xfrm>
            <a:off x="324000" y="3860640"/>
            <a:ext cx="13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10 % of all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victim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1" name="Tekstiruutu 10"/>
          <p:cNvSpPr/>
          <p:nvPr/>
        </p:nvSpPr>
        <p:spPr>
          <a:xfrm>
            <a:off x="324000" y="4869000"/>
            <a:ext cx="23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30% of females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over the age of 15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2" name="Tekstiruutu 11"/>
          <p:cNvSpPr/>
          <p:nvPr/>
        </p:nvSpPr>
        <p:spPr>
          <a:xfrm>
            <a:off x="6732720" y="1628640"/>
            <a:ext cx="480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nnually 8 %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of the people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 intimate partner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relationship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(approx. 100 000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4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5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0115-F2BC-4FAB-AECA-EA0EEF437770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090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What is MARAC?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MARAC is a local, multi agency victim-focused meeting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e risk assessment process is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ult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ctims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rious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domestic violence/abus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In the meetings information is shared on the highest risk cases of domestic violence and abuse between different statutory and voluntary sector agencies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In Finland, MARAC procedures and standards for operating MARAC meetings are coordinated by THL (National Institute for Health and Welfare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Video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 u="sng">
                <a:solidFill>
                  <a:srgbClr val="303030"/>
                </a:solidFill>
                <a:uFillTx/>
                <a:latin typeface="Arial"/>
              </a:rPr>
              <a:t>https://www.youtube.com/watch?v=alje4zJOHIw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9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0" name="Alatunnisteen paikkamerkki 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1" name="Dian numeron paikkamerkki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3FEB-639F-465E-8117-5A254BF46CAD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7:05Z</dcterms:created>
  <dc:creator>Jaakko Säkö</dc:creator>
  <dc:description/>
  <dc:language>en-US</dc:language>
  <cp:lastModifiedBy>Laura Kornete</cp:lastModifiedBy>
  <cp:lastPrinted>2018-11-28T07:41:21Z</cp:lastPrinted>
  <dcterms:modified xsi:type="dcterms:W3CDTF">2019-04-03T07:49:52Z</dcterms:modified>
  <cp:revision>95</cp:revision>
  <dc:subject>suomi</dc:subject>
  <dc:title>Dia 1</dc:title>
</cp:coreProperties>
</file>